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F58-C2EE-4ED1-9785-7AA3CF15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458-1837-48F4-819E-09060880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FFBE9-0862-43FB-86C7-C24C1876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7D888-6833-4F18-84AA-DD1A1E3F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15E4C-1300-4559-855F-BBD51F9A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F456D-4F16-441E-A0ED-9C35FE6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8CDCF-1AE8-4A2F-B6F7-661FD6A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A786E-FCF3-4E98-91AF-C9312750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73034-37A8-46AF-944D-B4D50A64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D3CD5-B97F-42AF-876B-2729B35F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BB73C-D879-4904-BC3C-D1F05CF0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C4F38-F2BD-4CEA-A4C7-21949C4C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A1F-44C2-4F2C-BB38-D6C55914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3348D-B72B-45ED-A86F-45F8FDB0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43C1E-DC98-4EB9-9E38-E3C279B7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79400-6B17-4913-8966-8C392A7C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D1FFD-3234-427A-9823-79D90617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CBA6F-DBCF-44FB-A137-9586984E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79DD9-C764-4671-926B-942E33EF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62157-CBC1-45A3-A107-26BF5BC2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510DD-D3A0-47A3-B9DF-DA52498B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2A786-6735-427A-91C5-6EBEA055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A583B-2D76-4734-AAF4-D25B9CB1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7DA-6DA0-4790-83AC-C8DC0596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7562E-943B-47B8-B007-8EC06005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DD6B0-4FE9-4D44-8BF5-B4F17A6D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3B0AE-DDE8-45FB-9CC3-DE3E53C8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6101B-69B9-459E-ACE5-1E0B42AA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59057-E1E8-4BE2-8F28-35B30B6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BB407-0FEB-40D0-B417-93842991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5E425-670D-49DA-A211-30E62031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99B6B-B71C-4E70-A9B7-69D4A3F3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84422-CA38-4C20-8602-FEBB89FE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CC19C-92C2-4745-8E2D-634081D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20AB6-8CCA-4D8E-9A86-4F8A678B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132AE-14BF-4373-92D0-97FCD2B7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A17BB-05E3-4147-B4D5-807D5396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1490E-8DE0-4ADE-AC01-969522C7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618DA-DE3D-4E29-A20A-846BF715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FF814-F8A5-4EFB-8D1A-CB60BA25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4FE48-8A2F-4191-ACDF-160E5238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ED621-9C27-41DB-8D8F-9F7CDB9F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00CA4-C301-4B53-832D-15CAA132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12886-FDB1-4BDF-867F-9853FA75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22DEB-91ED-464B-965C-91C7A0F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59C84-4C6E-439D-AEE9-2A83CEF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A6A37-5B29-41AA-8EC2-AF0993D9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5B1BE-E69F-4419-98FF-C89984F0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BA123-2370-4F7A-BDCE-BE820B1C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994EC-E7D5-4935-9630-3D6C89A0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61AD6-79D4-4143-9F2C-D16EC274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FBC1B-3D9A-4E5B-B20B-7225CB4E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D4CD1-5D80-4E80-972A-9BB91BA4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925EC-1A6D-428D-9E3A-5F78BE47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7831D-168C-4EA6-8DCA-BC5A2671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9E970-FDC5-435D-A9A6-57B1188E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518FF-D84B-406D-8915-A477DA65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99102-2455-4283-B28D-23F21E4D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EBED7-4959-43B8-9829-C8FE26E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4B85E-CF67-4928-9A14-321618FA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D97F4-0F95-4D78-BB15-557AFC9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E9639-72F6-490B-B618-2E3F66AA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81CC1-AB41-4C0F-901D-ACF9BDA1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A365A-E6A9-44E5-BB4B-27F9BBF8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1FBF0-E0B7-45CB-A3C1-722D591C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57965-026F-4175-A8E3-EFD36E98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82287-A00D-421D-9FC3-8670E53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C4614-6868-48CA-B170-A1E35C98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338E1-6B19-49B1-BE1B-92ABA01A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E0B4A-35B3-48C3-A41B-4ED3DE55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53ABC-485C-43FA-9CE8-3B2FC3F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8C863-2501-4642-BE33-BDF86C11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615A5-9A20-4FB5-9A81-D4D875C1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9E541-4CF8-4E2A-83F2-2D7BDA55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44D66-1F91-4ED0-AA80-5B898BF2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E036E-1D69-4D63-96E5-B49F6926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5309A-3F93-42DD-A7D2-3E47D5F2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F0E0E-A7E6-4BCD-96E7-7C7EEA29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4D46C-9CBB-4BAE-9D22-283985A6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EA1E3-4275-47FC-8F90-AEAF0A92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CA8972-44D9-446F-958B-8A7AEB9A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869E0-28BC-431A-87AE-29C75BA8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244A1-8673-4850-9990-6BDCE556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E8FE2-74B4-45DF-83D1-2F08B1D0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F5CBC-903C-4D02-96D2-167FB6D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047B5-C345-42A9-B082-7FCEC137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30FF5-1DC6-40EB-B824-7AAF5684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D0807-3C4D-4E9B-B5F6-44D9C4E2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7C183-A943-4693-8060-48B16722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B9EA6-0C5B-4062-8259-CB8F3503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DCAC31-06E8-4180-B628-F1DD26D0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8A232-AAF8-4C5A-ABE8-060E847C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C0C4E-EEFC-42BB-A01F-1D65DE9C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88FFB-A6DD-4749-BE69-C3C68954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D7642-C5E6-4CBC-A81E-C844A497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5298E-9E92-4336-B724-95845685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4248A-BF86-493B-8819-F699D74D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65078-8495-4F9E-841B-33567B2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D6257-64CC-4A19-A31E-96AEB32E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CBEFF-7C1E-462E-9805-C6C1D7CA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366FA-29F4-4E1C-9D49-DB3ED850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520B3-1245-477B-9B87-2B16A7A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C2F94-75B5-425A-BBBA-6EA277F2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B9C0E-D944-48C0-A97D-1F773266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A9BAE-BCA9-49B9-B0CA-C9721A4E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D131A-B709-46FF-A0D2-2D8B0BB5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975F7-C155-459D-A0E3-C7983AD6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2E285-C737-47EC-8D8A-7044DC98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5BA08-71F8-4109-83DD-D680830A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002C9-A58D-42E6-8E46-39F17C3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A5593-063B-44A7-9A65-37C23A6E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E00-1BFF-467D-A06F-354BF453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BE26C-1A85-4CD6-A646-068C5876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C6D1B-9682-4898-B08D-5EBB4DD8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3EF30-A37D-483B-BDB0-CD798AC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4BCC8-C1D4-4F52-A9F0-6A46A9E5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86372-04EE-44AE-A4CD-BE4E7244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507B5-290A-4EAB-AEAD-BC5D926A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1B310-2F6C-4522-ABCE-EBB70867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5F388-C2BB-4554-9A2A-AAD6BCE9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09640-F22A-4133-B69B-5A9C8BB0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876478-4B47-4DE7-9DFF-4D6F96B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FC4B1-22A8-43F1-8555-2F385DFB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7968E-9D11-440C-B827-B59F1FE3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87CA1-F643-45E9-B791-2F999CF8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97E95-A187-4622-87FB-FBF26F8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4115F-5CF7-49A9-8C63-06ABC0C6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987F0-0494-4E65-9D67-5F7C7350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4F5DC-CA25-414D-8C0A-138D4CA7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1FF23D-47DC-406B-AFF8-63E03639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60C0F-9563-4A31-B626-76D715FF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5A0E5E-E01B-47CE-ADEB-50837A07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CCF1A-9545-47F5-AC76-03D788F7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0BA2D-FA62-44D2-A8F7-47F28C2B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8EDE9-5C92-4FE1-A063-5840B0CD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CD857A-936C-4F5D-84C8-7B8FAAEF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0128C-499A-413E-B5BA-29F27B8B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61069-D1B4-4595-8604-74F42313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7E920-C2ED-4A1F-B8AC-B0A937A8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EF174F-FF3A-4140-93FD-6F1E4068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A3050-135A-4B40-97E0-C0C9ED36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C98C05-8C91-4230-8D4C-1AA20EDF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2E4A10-B843-4A64-9711-63D4256D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B5C911-94C0-4A14-BA9F-61C61CD8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BA21E-0166-4CC6-81C1-0DAFAC29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FA3B1-C60F-449B-A53E-D531D7ED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05BA-151A-4977-A24B-82D53690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3326-D807-4282-81AB-BDFB4F94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9F84-6F63-499D-944A-BEE27F2D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713F-55D1-4DAA-AA14-03CB8987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E367-E839-48D0-AB5A-D019625D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8ED-01A8-4B9D-8AEE-B9356A7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4E9C-BF0B-4275-A076-3233FCEA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49EE-2867-4C88-B18B-D05D3E7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1F0B-B213-41F8-B234-48220711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2AA8-4D44-46A5-BC0C-7E72FD64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BD22-27C0-487E-A97A-84DAEBBC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7C2F9-ABAA-40AC-A186-6D3B3543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8548-05D3-431E-B846-A98F7C05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18B5-928E-4CF1-AB89-9208CAAD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B89F-8653-4C3D-84AC-B15FE3A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2983-E857-4D31-9306-571B09D9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905-0ABB-4897-884F-94094281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A749A-8631-43F1-BB80-BF5019C6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2FC8-C4BB-4B51-B766-0A2D3F7A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8558-AACF-47F8-B313-7834A83B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7DD8-539A-4E00-AA77-BA9747A6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D500-D83C-4BB8-93BF-151732E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CF38-65A6-4A97-920B-E31774C8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D694-96B3-44F1-8346-84464C8B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A728-A9C8-423B-BC50-51AC0382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D4FC-E7B4-4F9E-A68E-0EE96841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BC6D1-776C-4EE4-AC2E-DA770C77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64B-1DE8-403C-8F2B-498027CE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74409-201D-42FF-BD83-C41F7F54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C9334-15A7-4A2D-8BED-15216EDB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FFA7E-2079-4A2B-B059-468E5B4C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EC0A3-0C2F-4EE2-AFFA-8F5D687D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F3B7B-F339-4054-A4E7-DA6E2776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FC85D-D3B6-4CB1-88B8-75A6284A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098B1-88FC-4EE2-B5D8-DC9578A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7AAE4-7F4F-49D0-A7C9-D13FAC9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D12CA-DD0B-41BA-A9BD-DB6A7695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E96C2-51C2-4E17-854D-B8AC1878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30C-BEAB-47A8-BD1D-CE8E238A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03AF5-C65F-4C2A-B1F4-FBDA709D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176E0-20BD-43A7-B8B3-7C70CA47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8B837-DAC6-4A71-BAA4-98DD1CB4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5ED3-D32B-4A5A-BBB1-14F63645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8C132-8854-4337-B582-8D269280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AD00-FE19-42FB-99E1-A5727E27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8A5D-ECC3-469C-A899-B313076E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8B7DC-DBEE-4188-8B15-4194D82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9B928-61EB-496B-8591-4F91252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E00C3-A5A4-4C24-95C2-4EEC615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817-4A24-4FB1-A3DA-6417D38D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AEA23-25CD-4EA4-A813-5A6C689B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7B25C-3F40-40D4-B76D-441E18B0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8F03B-A601-4BB7-ADFA-781B28CB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E7265-1FB7-4B9D-8919-2885A907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358D6-1EC2-4E8A-A653-393CF7EB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B7EB3-74C9-45A3-A342-3D5F3DDC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BC120-E015-4F90-B71E-8DB7A10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D68C2-CF54-4EA9-9654-01C605B5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B9C08-3B3A-474F-81F7-4F6F3693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A0362-FB2E-4915-A4FC-2E372C5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032-35FC-42E3-8CDB-07FD9E4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A044-DA27-4F6B-A970-ED01554B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B9A55-CBC3-462B-B3B9-FD52D578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1C138-D2B9-425B-AB25-1F44DF89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54DB-2AA0-4173-909C-2C5A6789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B7B91-0474-4F99-B1C5-26720FAB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BB2A-E0C2-46D0-9515-51DEE605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2DB39-CA1C-408E-9BF3-5F29D2F4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0E056-9194-48C2-8288-875B4FAD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8B618-2415-4AB6-A95A-E98C644F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812EE-95A9-4AAD-90E8-748697B2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F7C-4762-40C2-9700-B93191D5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DD49B-1B58-4148-8FCF-B421EA12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8FFE9-A7A4-46CE-AF76-9E2F7D0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5C6EE-A144-4DA6-A51A-E166F848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91E91-5A4D-4BF5-9B91-347DAC0F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511CD-84A2-4EDF-8D29-94CB6BEB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62D3C-47B0-40C1-8960-F9ECA603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4C908-8110-4664-93E4-C5F90E8B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F96A2-92D4-4743-A84D-497B4C42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8BA57-68C5-4814-95D0-AA29D246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1C476-76B1-43B1-AD23-DF3842A3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DADE-71D2-4CDF-8F45-B6988C0E4F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8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8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1B41-332F-4DCA-B79F-118DB077DC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0498-88E1-4F80-8BDC-9EEECCDE29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0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BEC2-A41F-4C3C-8BAA-335223DB50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77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5E23-B3F4-4032-A364-9CEAB829A7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24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DA3D-2CD6-498A-BEC9-3E560277A9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4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2119-F029-4478-B50F-0753D7C72A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1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2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2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11F4-6FEB-4917-B5F9-E47658BDD7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55BD-E3F7-4AC6-89E6-C5F2A8026B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ftr" idx="5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2877-3F8F-4BF3-9507-F8F6EEF3CE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5E1B-8CA4-4251-A3B6-7DB0EA983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BD94-1D43-47E9-8BEC-6956298912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8418-1FC0-461A-8446-8D5589815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EB92-CCC8-4022-963C-B183253E2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8A98-7809-48DE-92FC-B1A95A7535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08A-845C-4700-96DE-8070B9E69E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4B55-8E65-4BA1-8ADC-E2022BCEC5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3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5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6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8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A569-7D71-490C-A4DC-BAD5309AF1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3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4070-4C66-4E02-8584-DD2538A71F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i Magnifica Mansi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  <a:ea typeface="Arial"/>
              </a:rPr>
              <a:t>ó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6765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Swathi Gorant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6" name="" descr="luxury residence spa house architecture Luxury House Spa Design Residential Singapore by Guz Architects"/>
          <p:cNvPicPr/>
          <p:nvPr/>
        </p:nvPicPr>
        <p:blipFill>
          <a:blip r:embed="rId1"/>
          <a:stretch/>
        </p:blipFill>
        <p:spPr>
          <a:xfrm>
            <a:off x="2209680" y="2647800"/>
            <a:ext cx="4876920" cy="3907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 Un Garaje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686400" cy="276048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1295280" y="28954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garaje es grande y mod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144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e3e3ff"/>
                </a:solidFill>
                <a:latin typeface="Arial"/>
              </a:rPr>
              <a:t>Adiós y Gracias</a:t>
            </a:r>
            <a:endParaRPr b="0" lang="en-US" sz="5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Man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luxury residence spa house architecture Luxury House Spa Design Residential Singapore by Guz Architects"/>
          <p:cNvPicPr/>
          <p:nvPr/>
        </p:nvPicPr>
        <p:blipFill>
          <a:blip r:embed="rId1"/>
          <a:stretch/>
        </p:blipFill>
        <p:spPr>
          <a:xfrm>
            <a:off x="3581280" y="2057400"/>
            <a:ext cx="4618080" cy="408312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914400" y="2895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ión es grande, bonita, y luj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09480" y="26668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sala es lujosa, bonita, y bella. N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" descr="lavish elegant living room design ideas Luxury House Spa Design Residential Singapore by Guz Architects"/>
          <p:cNvPicPr/>
          <p:nvPr/>
        </p:nvPicPr>
        <p:blipFill>
          <a:blip r:embed="rId1"/>
          <a:stretch/>
        </p:blipFill>
        <p:spPr>
          <a:xfrm>
            <a:off x="4038480" y="2819520"/>
            <a:ext cx="4762800" cy="3305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 Una Coc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105" name="" descr="pedini integra round kitchen2 Round Modern Kitchen Countetops from Pedini"/>
          <p:cNvPicPr/>
          <p:nvPr/>
        </p:nvPicPr>
        <p:blipFill>
          <a:blip r:embed="rId1"/>
          <a:stretch/>
        </p:blipFill>
        <p:spPr>
          <a:xfrm>
            <a:off x="2819520" y="2438280"/>
            <a:ext cx="4667040" cy="311472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914400" y="28954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granda, moderna, y boni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Un Comedor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3338640" y="2505240"/>
            <a:ext cx="4510080" cy="337788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914400" y="2895480"/>
            <a:ext cx="1752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omedor bella, lujosa, y fabul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 B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ñ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3276360" cy="2806560"/>
          </a:xfrm>
          <a:prstGeom prst="rect">
            <a:avLst/>
          </a:prstGeom>
          <a:ln w="0">
            <a:noFill/>
          </a:ln>
        </p:spPr>
      </p:pic>
      <p:sp>
        <p:nvSpPr>
          <p:cNvPr id="1113" name=""/>
          <p:cNvSpPr/>
          <p:nvPr/>
        </p:nvSpPr>
        <p:spPr>
          <a:xfrm>
            <a:off x="4038480" y="320040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981080" y="2895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b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llo, lujoso, y bon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 Cuatro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762120" y="2819520"/>
            <a:ext cx="2133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 cuarto fabulosa, lujosa, y moder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Pat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4219560" cy="316080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914400" y="358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atio es magnific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eionante, y boni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 Un Jard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í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rcRect l="0" t="0" r="10054" b="12673"/>
          <a:stretch/>
        </p:blipFill>
        <p:spPr>
          <a:xfrm>
            <a:off x="4724280" y="3130560"/>
            <a:ext cx="3959280" cy="288288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600200" y="3200400"/>
            <a:ext cx="2590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 jardín es moderno, bello, y fabulo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1:32Z</dcterms:created>
  <dc:creator>gorantlaswa</dc:creator>
  <dc:description/>
  <dc:language>en-US</dc:language>
  <cp:lastModifiedBy>gorantlaswa</cp:lastModifiedBy>
  <dcterms:modified xsi:type="dcterms:W3CDTF">2012-10-26T15:44:07Z</dcterms:modified>
  <cp:revision>7</cp:revision>
  <dc:subject/>
  <dc:title>Mi Magnifico</dc:title>
</cp:coreProperties>
</file>